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43E-A47E-40DD-B500-FB06AE41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436-F2F3-4780-AFDB-833CE798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203-F1FF-4A9D-85E7-F0C60C2D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A5D-2BC5-4E61-89A8-F14000C3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A22-E044-4E9C-95BC-BF56D3DB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C31-AD9A-42FE-AFAA-4F39EAB6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D05-8795-4052-A73B-FB017BA0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49D-D96B-40E3-8392-F090878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BEF-C159-4C32-9EF7-AFCB18A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386-5978-44A9-B51D-C51ADD9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470-7DF7-40F9-8E32-1DD4BA6A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3B8-6916-475F-8BEA-CFE1A4C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D7F6-7C85-4634-85D6-86108ED3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3519040000[1]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3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9" name="Oval 70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2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1" name="Picture 77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8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84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4" name="Oval 71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81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0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7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8" name="Oval 74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8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6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920" y="1066680"/>
            <a:ext cx="6553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kilogram is equal to the m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304920" y="341316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71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2" descr="j0426068"/>
          <p:cNvPicPr/>
          <p:nvPr/>
        </p:nvPicPr>
        <p:blipFill>
          <a:blip r:embed="rId1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80" name="Picture 44" descr=""/>
            <p:cNvPicPr/>
            <p:nvPr/>
          </p:nvPicPr>
          <p:blipFill>
            <a:blip r:embed="rId2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419720" y="99072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10240" cy="1606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0"/>
          <p:cNvGrpSpPr/>
          <p:nvPr/>
        </p:nvGrpSpPr>
        <p:grpSpPr>
          <a:xfrm>
            <a:off x="457200" y="3352680"/>
            <a:ext cx="8458200" cy="2632320"/>
            <a:chOff x="457200" y="3352680"/>
            <a:chExt cx="8458200" cy="2632320"/>
          </a:xfrm>
        </p:grpSpPr>
        <p:pic>
          <p:nvPicPr>
            <p:cNvPr id="89" name="Picture 22" descr=""/>
            <p:cNvPicPr/>
            <p:nvPr/>
          </p:nvPicPr>
          <p:blipFill>
            <a:blip r:embed="rId2"/>
            <a:stretch/>
          </p:blipFill>
          <p:spPr>
            <a:xfrm>
              <a:off x="457200" y="3352680"/>
              <a:ext cx="318132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3733920" y="358128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9"/>
          <p:cNvSpPr/>
          <p:nvPr/>
        </p:nvSpPr>
        <p:spPr>
          <a:xfrm flipH="1" flipV="1">
            <a:off x="3860640" y="185400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97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film canister on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100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103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106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108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jluckey</cp:lastModifiedBy>
  <dcterms:modified xsi:type="dcterms:W3CDTF">2011-08-07T22:02:33Z</dcterms:modified>
  <cp:revision>21</cp:revision>
  <dc:subject/>
  <dc:title>Slide 1</dc:title>
</cp:coreProperties>
</file>